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4894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83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85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238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200E-F9D3-4229-A32E-A82BAD7006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69B03-EF08-4498-BA6A-E17C401AD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413B5-2C76-4756-9BBC-2C90D2E824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9BE64-BBFC-46C1-8C66-1A876D28EA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B4238-99CF-405B-879D-6216B39D13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8C74C-70B3-4592-B66B-95A24A4DF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F96C-577F-4E44-9723-A9B3AE4623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4E8C0-DFE2-4636-8F70-0000DC21C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9967-07E5-4D6A-BC17-C4921B7F1E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FA05D-8BE0-4AB9-95B8-F5503E8BD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371600" y="763560"/>
            <a:ext cx="48974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1212F-D035-4447-B732-BD44A8893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0"/>
          <p:cNvSpPr/>
          <p:nvPr/>
        </p:nvSpPr>
        <p:spPr>
          <a:xfrm>
            <a:off x="4398840" y="9555120"/>
            <a:ext cx="323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6158B-1286-4155-ACBE-6A7367451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847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98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7240" y="84312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98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7240" y="2228760"/>
            <a:ext cx="15307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9320"/>
            <a:ext cx="474804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8560" y="222876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8560" y="843120"/>
            <a:ext cx="232020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8760"/>
            <a:ext cx="4754520" cy="12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9320"/>
            <a:ext cx="474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54520" cy="26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34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2225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8440" indent="-263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1159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Q1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6T21:27:56Z</dcterms:modified>
  <cp:revision>1</cp:revision>
  <dc:subject/>
  <dc:title>One Laptop per Child</dc:title>
</cp:coreProperties>
</file>